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7F628E9-77D8-4339-B701-945ADB67A108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CF76BD1-9475-47B9-842A-8DCD7D035872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BAD2-7DDB-4F45-82AC-BF13FC5D7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C4EC-96DC-4E23-ADCD-EAE3F346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6F10-1D45-4755-B2F4-639327AD6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CDEF-0DED-4CBE-82F6-D5CFC388F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3DA1-92E1-43B9-9CDC-3479A504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A4F2-752B-4A0E-98A9-C3FC0187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5D07-25FB-411F-831D-227BF560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5F2A-B2A7-4CF2-9B2D-718F70DE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4B99-6D26-472A-8F1A-1D021ABD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457A-B752-4FA0-A839-23F90797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F8BB-4528-4571-AE98-48EFAF95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2B33-22AD-4E43-BE1F-2AFC2FE3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B661-AD9B-48BA-ABD9-15F6AB42F6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online.fasie.ru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421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КРЫТЫЙ КОНКУРС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КОММЕРЦИАЛИЗАЦИЯ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»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МАЛЫХ ИННОВАЦИОННЫХ ПРЕДПРИЯТИЙ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4292640"/>
            <a:ext cx="6400800" cy="15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 предоставлению грантов на финансовое обеспечение (возмещение) расходов, связанных с реализацией инновационных проектов, результаты которых имеют перспективу коммерциализации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 исключением расходов на выполнение научно-исследовательских и опытно-конструкторских рабо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"/>
          <p:cNvPicPr/>
          <p:nvPr/>
        </p:nvPicPr>
        <p:blipFill>
          <a:blip r:embed="rId2"/>
          <a:stretch/>
        </p:blipFill>
        <p:spPr>
          <a:xfrm>
            <a:off x="2195640" y="476280"/>
            <a:ext cx="4370400" cy="150660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324000" y="6237360"/>
            <a:ext cx="835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бочее название конкурса, возможны из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4720" y="340920"/>
            <a:ext cx="651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РИАНТЫ ФИНАНСИРОВАНИЯ МАЛЫХ ИННОВАЦИОННЫХ ПРЕДПРИЯТ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хема 10" descr=""/>
          <p:cNvPicPr/>
          <p:nvPr/>
        </p:nvPicPr>
        <p:blipFill>
          <a:blip r:embed="rId2"/>
          <a:stretch/>
        </p:blipFill>
        <p:spPr>
          <a:xfrm>
            <a:off x="407880" y="2457360"/>
            <a:ext cx="3756240" cy="1865520"/>
          </a:xfrm>
          <a:prstGeom prst="rect">
            <a:avLst/>
          </a:prstGeom>
          <a:ln w="0">
            <a:noFill/>
          </a:ln>
        </p:spPr>
      </p:pic>
      <p:pic>
        <p:nvPicPr>
          <p:cNvPr id="54" name="Схема 11" descr=""/>
          <p:cNvPicPr/>
          <p:nvPr/>
        </p:nvPicPr>
        <p:blipFill>
          <a:blip r:embed="rId3"/>
          <a:stretch/>
        </p:blipFill>
        <p:spPr>
          <a:xfrm>
            <a:off x="4803840" y="2444760"/>
            <a:ext cx="4626000" cy="1859040"/>
          </a:xfrm>
          <a:prstGeom prst="rect">
            <a:avLst/>
          </a:prstGeom>
          <a:ln w="0">
            <a:noFill/>
          </a:ln>
        </p:spPr>
      </p:pic>
      <p:cxnSp>
        <p:nvCxnSpPr>
          <p:cNvPr id="55" name="Прямая со стрелкой 6"/>
          <p:cNvCxnSpPr/>
          <p:nvPr/>
        </p:nvCxnSpPr>
        <p:spPr>
          <a:xfrm flipH="1">
            <a:off x="2339640" y="1483920"/>
            <a:ext cx="1152720" cy="99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Прямая со стрелкой 7"/>
          <p:cNvCxnSpPr/>
          <p:nvPr/>
        </p:nvCxnSpPr>
        <p:spPr>
          <a:xfrm>
            <a:off x="5580000" y="1483920"/>
            <a:ext cx="1008720" cy="99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7" name="TextBox 12"/>
          <p:cNvSpPr/>
          <p:nvPr/>
        </p:nvSpPr>
        <p:spPr>
          <a:xfrm>
            <a:off x="1403280" y="4653000"/>
            <a:ext cx="6553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курсе могут принимать участие юридические лица и индивидуальные предприниматели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йствующие не менее г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оответствующие критериям отнесения к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убъекту малого предприниматель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соответствии с Федеральным законом № 209-ФЗ от 24.07.2007 г., среди видов экономической деятельности которых имее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д ОКВЭД 72.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учные исследования и разработки в области естественных и технических нау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формление и подача заявок производится в сети Интернет по адре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online.fasie.ru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ил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www.система-фонд.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язательная документация для участия в конкур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хема 3" descr=""/>
          <p:cNvPicPr/>
          <p:nvPr/>
        </p:nvPicPr>
        <p:blipFill>
          <a:blip r:embed="rId2"/>
          <a:stretch/>
        </p:blipFill>
        <p:spPr>
          <a:xfrm>
            <a:off x="1182600" y="1262160"/>
            <a:ext cx="6894720" cy="2176200"/>
          </a:xfrm>
          <a:prstGeom prst="rect">
            <a:avLst/>
          </a:prstGeom>
          <a:ln w="0">
            <a:noFill/>
          </a:ln>
        </p:spPr>
      </p:pic>
      <p:sp>
        <p:nvSpPr>
          <p:cNvPr id="60" name="Скругленный прямоугольник 4"/>
          <p:cNvSpPr/>
          <p:nvPr/>
        </p:nvSpPr>
        <p:spPr>
          <a:xfrm>
            <a:off x="1301760" y="3948120"/>
            <a:ext cx="2940120" cy="4316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 финансовое обеспечение рас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Скругленный прямоугольник 5"/>
          <p:cNvSpPr/>
          <p:nvPr/>
        </p:nvSpPr>
        <p:spPr>
          <a:xfrm>
            <a:off x="5219640" y="3933720"/>
            <a:ext cx="2808360" cy="43200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 возмещение рас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Группа 6"/>
          <p:cNvGrpSpPr/>
          <p:nvPr/>
        </p:nvGrpSpPr>
        <p:grpSpPr>
          <a:xfrm>
            <a:off x="1301760" y="4657680"/>
            <a:ext cx="2952720" cy="576360"/>
            <a:chOff x="1301760" y="4657680"/>
            <a:chExt cx="2952720" cy="576360"/>
          </a:xfrm>
        </p:grpSpPr>
        <p:sp>
          <p:nvSpPr>
            <p:cNvPr id="63" name="Скругленный прямоугольник 13"/>
            <p:cNvSpPr/>
            <p:nvPr/>
          </p:nvSpPr>
          <p:spPr>
            <a:xfrm>
              <a:off x="1301760" y="4790520"/>
              <a:ext cx="2952720" cy="443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Скругленный прямоугольник 4"/>
            <p:cNvSpPr/>
            <p:nvPr/>
          </p:nvSpPr>
          <p:spPr>
            <a:xfrm>
              <a:off x="1306800" y="4657680"/>
              <a:ext cx="2942640" cy="554760"/>
            </a:xfrm>
            <a:prstGeom prst="rect">
              <a:avLst/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календарный план выполнения инновационного проекта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Группа 7"/>
          <p:cNvGrpSpPr/>
          <p:nvPr/>
        </p:nvGrpSpPr>
        <p:grpSpPr>
          <a:xfrm>
            <a:off x="1297080" y="5211720"/>
            <a:ext cx="2952720" cy="488880"/>
            <a:chOff x="1297080" y="5211720"/>
            <a:chExt cx="2952720" cy="488880"/>
          </a:xfrm>
        </p:grpSpPr>
        <p:sp>
          <p:nvSpPr>
            <p:cNvPr id="66" name="Скругленный прямоугольник 11"/>
            <p:cNvSpPr/>
            <p:nvPr/>
          </p:nvSpPr>
          <p:spPr>
            <a:xfrm>
              <a:off x="1297080" y="5211720"/>
              <a:ext cx="2952720" cy="488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Скругленный прямоугольник 6"/>
            <p:cNvSpPr/>
            <p:nvPr/>
          </p:nvSpPr>
          <p:spPr>
            <a:xfrm>
              <a:off x="1302120" y="5235480"/>
              <a:ext cx="2942640" cy="441360"/>
            </a:xfrm>
            <a:prstGeom prst="rect">
              <a:avLst/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смета расходов на выполнение инновационного проекта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Группа 8"/>
          <p:cNvGrpSpPr/>
          <p:nvPr/>
        </p:nvGrpSpPr>
        <p:grpSpPr>
          <a:xfrm>
            <a:off x="1297080" y="5676840"/>
            <a:ext cx="2952720" cy="542880"/>
            <a:chOff x="1297080" y="5676840"/>
            <a:chExt cx="2952720" cy="542880"/>
          </a:xfrm>
        </p:grpSpPr>
        <p:sp>
          <p:nvSpPr>
            <p:cNvPr id="69" name="Скругленный прямоугольник 9"/>
            <p:cNvSpPr/>
            <p:nvPr/>
          </p:nvSpPr>
          <p:spPr>
            <a:xfrm>
              <a:off x="1297080" y="5676840"/>
              <a:ext cx="2952720" cy="542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Скругленный прямоугольник 8"/>
            <p:cNvSpPr/>
            <p:nvPr/>
          </p:nvSpPr>
          <p:spPr>
            <a:xfrm>
              <a:off x="1302120" y="5703120"/>
              <a:ext cx="2942640" cy="489960"/>
            </a:xfrm>
            <a:prstGeom prst="rect">
              <a:avLst/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документы, подтверждающие привлечение денежных средств инвестора или собственных средств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Группа 15"/>
          <p:cNvGrpSpPr/>
          <p:nvPr/>
        </p:nvGrpSpPr>
        <p:grpSpPr>
          <a:xfrm>
            <a:off x="5268960" y="4668840"/>
            <a:ext cx="2809800" cy="685800"/>
            <a:chOff x="5268960" y="4668840"/>
            <a:chExt cx="2809800" cy="685800"/>
          </a:xfrm>
        </p:grpSpPr>
        <p:sp>
          <p:nvSpPr>
            <p:cNvPr id="72" name="Скругленный прямоугольник 19"/>
            <p:cNvSpPr/>
            <p:nvPr/>
          </p:nvSpPr>
          <p:spPr>
            <a:xfrm>
              <a:off x="5268960" y="4668840"/>
              <a:ext cx="280980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Скругленный прямоугольник 4"/>
            <p:cNvSpPr/>
            <p:nvPr/>
          </p:nvSpPr>
          <p:spPr>
            <a:xfrm>
              <a:off x="5280480" y="4702320"/>
              <a:ext cx="2786760" cy="618840"/>
            </a:xfrm>
            <a:prstGeom prst="rect">
              <a:avLst/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9680" rIns="49680" tIns="49680" bIns="49680" anchor="ctr">
              <a:noAutofit/>
            </a:bodyPr>
            <a:p>
              <a:pPr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финансовый отчет о понесенных расходах на реализацию проекта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Группа 16"/>
          <p:cNvGrpSpPr/>
          <p:nvPr/>
        </p:nvGrpSpPr>
        <p:grpSpPr>
          <a:xfrm>
            <a:off x="5268960" y="5334120"/>
            <a:ext cx="2809800" cy="885600"/>
            <a:chOff x="5268960" y="5334120"/>
            <a:chExt cx="2809800" cy="885600"/>
          </a:xfrm>
        </p:grpSpPr>
        <p:sp>
          <p:nvSpPr>
            <p:cNvPr id="75" name="Скругленный прямоугольник 17"/>
            <p:cNvSpPr/>
            <p:nvPr/>
          </p:nvSpPr>
          <p:spPr>
            <a:xfrm>
              <a:off x="5268960" y="5334120"/>
              <a:ext cx="2809800" cy="885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Скругленный прямоугольник 6"/>
            <p:cNvSpPr/>
            <p:nvPr/>
          </p:nvSpPr>
          <p:spPr>
            <a:xfrm>
              <a:off x="5280480" y="5377320"/>
              <a:ext cx="2786760" cy="736920"/>
            </a:xfrm>
            <a:prstGeom prst="rect">
              <a:avLst/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9680" rIns="49680" tIns="49680" bIns="49680" anchor="ctr">
              <a:noAutofit/>
            </a:bodyPr>
            <a:p>
              <a:pPr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гарантийное письмо о том, что в соответствии со ст.14 209-ФЗ от 24.07.2007 г., запрашиваемые для финансовой поддержки статьи расходов  ранее не финансировались из других бюджетных источников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77" name="Прямая со стрелкой 22"/>
          <p:cNvCxnSpPr>
            <a:endCxn id="60" idx="0"/>
          </p:cNvCxnSpPr>
          <p:nvPr/>
        </p:nvCxnSpPr>
        <p:spPr>
          <a:xfrm flipH="1">
            <a:off x="2770920" y="3213000"/>
            <a:ext cx="1801080" cy="735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8" name="Прямая со стрелкой 23"/>
          <p:cNvCxnSpPr>
            <a:endCxn id="61" idx="0"/>
          </p:cNvCxnSpPr>
          <p:nvPr/>
        </p:nvCxnSpPr>
        <p:spPr>
          <a:xfrm>
            <a:off x="4572000" y="3213000"/>
            <a:ext cx="2053080" cy="721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Прямая со стрелкой 27"/>
          <p:cNvCxnSpPr>
            <a:stCxn id="60" idx="2"/>
          </p:cNvCxnSpPr>
          <p:nvPr/>
        </p:nvCxnSpPr>
        <p:spPr>
          <a:xfrm>
            <a:off x="2771280" y="4379760"/>
            <a:ext cx="2520" cy="278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Прямая со стрелкой 28"/>
          <p:cNvCxnSpPr/>
          <p:nvPr/>
        </p:nvCxnSpPr>
        <p:spPr>
          <a:xfrm>
            <a:off x="6732720" y="4392360"/>
            <a:ext cx="21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1" name="Скругленный прямоугольник 29"/>
          <p:cNvSpPr/>
          <p:nvPr/>
        </p:nvSpPr>
        <p:spPr>
          <a:xfrm>
            <a:off x="2778120" y="954000"/>
            <a:ext cx="3456000" cy="21600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бщие доку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Прямая со стрелкой 30"/>
          <p:cNvCxnSpPr/>
          <p:nvPr/>
        </p:nvCxnSpPr>
        <p:spPr>
          <a:xfrm>
            <a:off x="4571640" y="1157400"/>
            <a:ext cx="1080" cy="32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полнительная документаци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ля участия в конкур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хема 3" descr=""/>
          <p:cNvPicPr/>
          <p:nvPr/>
        </p:nvPicPr>
        <p:blipFill>
          <a:blip r:embed="rId2"/>
          <a:stretch/>
        </p:blipFill>
        <p:spPr>
          <a:xfrm>
            <a:off x="1517760" y="1390680"/>
            <a:ext cx="666252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риоритетные направления, по которым проводится конкурс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Схема 4" descr=""/>
          <p:cNvPicPr/>
          <p:nvPr/>
        </p:nvPicPr>
        <p:blipFill>
          <a:blip r:embed="rId2"/>
          <a:stretch/>
        </p:blipFill>
        <p:spPr>
          <a:xfrm>
            <a:off x="1054080" y="1517760"/>
            <a:ext cx="702936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инансируемые статьи расходов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хема 4" descr=""/>
          <p:cNvPicPr/>
          <p:nvPr/>
        </p:nvPicPr>
        <p:blipFill>
          <a:blip r:embed="rId2"/>
          <a:stretch/>
        </p:blipFill>
        <p:spPr>
          <a:xfrm>
            <a:off x="378000" y="974880"/>
            <a:ext cx="8315280" cy="418752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384120" y="5229360"/>
            <a:ext cx="835344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симальный объем гранта составля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более 10 млн. руб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му малому инновационному предприятию, при условии, что размер собственных средств получателя гранта и (или) средств третьих лиц, привлеченных для выполнения инновационного проекта не может быть менее величины получаемого гра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о статьей 14 Федерального закона № 209-ФЗ от 24.07.2007 г. запрашиваемые для финансовой поддержки статьи расходов, согласно прилагаемой смете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должны ранее финансироваться из других бюджетных источ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324000" y="6453360"/>
            <a:ext cx="835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ечень расходов предварительный, после согласования с Минэкономразвития и Минфином РФ возможны изме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ритерии оценки заяв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хема 2" descr=""/>
          <p:cNvPicPr/>
          <p:nvPr/>
        </p:nvPicPr>
        <p:blipFill>
          <a:blip r:embed="rId2"/>
          <a:stretch/>
        </p:blipFill>
        <p:spPr>
          <a:xfrm>
            <a:off x="695160" y="1407960"/>
            <a:ext cx="789480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рядок предоставления гран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Скругленный прямоугольник 2"/>
          <p:cNvSpPr/>
          <p:nvPr/>
        </p:nvSpPr>
        <p:spPr>
          <a:xfrm>
            <a:off x="1128600" y="1052640"/>
            <a:ext cx="2938680" cy="4316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 финансовое обеспечение рас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Скругленный прямоугольник 3"/>
          <p:cNvSpPr/>
          <p:nvPr/>
        </p:nvSpPr>
        <p:spPr>
          <a:xfrm>
            <a:off x="5292720" y="1052640"/>
            <a:ext cx="2808360" cy="4316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 возмещение рас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хема 4" descr=""/>
          <p:cNvPicPr/>
          <p:nvPr/>
        </p:nvPicPr>
        <p:blipFill>
          <a:blip r:embed="rId2"/>
          <a:stretch/>
        </p:blipFill>
        <p:spPr>
          <a:xfrm>
            <a:off x="523800" y="1609560"/>
            <a:ext cx="4011840" cy="4645080"/>
          </a:xfrm>
          <a:prstGeom prst="rect">
            <a:avLst/>
          </a:prstGeom>
          <a:ln w="0">
            <a:noFill/>
          </a:ln>
        </p:spPr>
      </p:pic>
      <p:grpSp>
        <p:nvGrpSpPr>
          <p:cNvPr id="97" name="Группа 5"/>
          <p:cNvGrpSpPr/>
          <p:nvPr/>
        </p:nvGrpSpPr>
        <p:grpSpPr>
          <a:xfrm>
            <a:off x="4716360" y="1628640"/>
            <a:ext cx="3959280" cy="1152720"/>
            <a:chOff x="4716360" y="1628640"/>
            <a:chExt cx="3959280" cy="1152720"/>
          </a:xfrm>
        </p:grpSpPr>
        <p:sp>
          <p:nvSpPr>
            <p:cNvPr id="98" name="Выноска со стрелкой вверх 6"/>
            <p:cNvSpPr/>
            <p:nvPr/>
          </p:nvSpPr>
          <p:spPr>
            <a:xfrm rot="10800000">
              <a:off x="4716360" y="1628640"/>
              <a:ext cx="3959280" cy="1152720"/>
            </a:xfrm>
            <a:prstGeom prst="upArrowCallout">
              <a:avLst>
                <a:gd name="adj1" fmla="val 24999"/>
                <a:gd name="adj2" fmla="val 24997"/>
                <a:gd name="adj3" fmla="val 25000"/>
                <a:gd name="adj4" fmla="val 70041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Выноска со стрелкой вверх 4"/>
            <p:cNvSpPr/>
            <p:nvPr/>
          </p:nvSpPr>
          <p:spPr>
            <a:xfrm>
              <a:off x="4716360" y="1628640"/>
              <a:ext cx="39592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320" rIns="85320" tIns="85320" bIns="85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Calibri"/>
                </a:rPr>
                <a:t>Заключение контракта на предоставления грантов малому инновационного предприятию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Calibri"/>
                </a:rPr>
                <a:t>на возмещение расходов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Прямоугольник 12"/>
          <p:cNvSpPr/>
          <p:nvPr/>
        </p:nvSpPr>
        <p:spPr>
          <a:xfrm>
            <a:off x="4859280" y="5373720"/>
            <a:ext cx="3673440" cy="13683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е 5 лет после получения Гранта предприятие ежегодно до 15 апреля предоставляет в Фон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ю о достижении плановых показателей реализации инновационного проек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хгалтерскую отчетность и сведения о среднесписочной численности за прошедший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Стрелка вниз 13"/>
          <p:cNvSpPr/>
          <p:nvPr/>
        </p:nvSpPr>
        <p:spPr>
          <a:xfrm rot="16200000">
            <a:off x="4473360" y="5697000"/>
            <a:ext cx="390600" cy="320400"/>
          </a:xfrm>
          <a:prstGeom prst="downArrow">
            <a:avLst>
              <a:gd name="adj1" fmla="val 37194"/>
              <a:gd name="adj2" fmla="val 63852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Стрелка вниз 14"/>
          <p:cNvSpPr/>
          <p:nvPr/>
        </p:nvSpPr>
        <p:spPr>
          <a:xfrm>
            <a:off x="6480000" y="4956120"/>
            <a:ext cx="432000" cy="417600"/>
          </a:xfrm>
          <a:prstGeom prst="downArrow">
            <a:avLst>
              <a:gd name="adj1" fmla="val 35287"/>
              <a:gd name="adj2" fmla="val 50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Схема 18" descr=""/>
          <p:cNvPicPr/>
          <p:nvPr/>
        </p:nvPicPr>
        <p:blipFill>
          <a:blip r:embed="rId3"/>
          <a:stretch/>
        </p:blipFill>
        <p:spPr>
          <a:xfrm>
            <a:off x="4687920" y="2755800"/>
            <a:ext cx="387648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ТАКТНАЯ ИНФОРМА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лстых Денис Валерьевич - консультант отдела экспертизы и мониторинг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нда содействия развитию малых форм предприятий в научно-технической сфе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19034, Москва, 3-й Обыденский переулок, д.1, стр.5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б. 1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л.: +7 (495) 231-19-06 доб.15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-mail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olstykh@fasie.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5T07:34:53Z</dcterms:created>
  <dc:creator>Толстых Денис Валерьевич</dc:creator>
  <dc:description/>
  <dc:language>en-US</dc:language>
  <cp:lastModifiedBy>Alexey</cp:lastModifiedBy>
  <dcterms:modified xsi:type="dcterms:W3CDTF">2014-09-24T12:46:09Z</dcterms:modified>
  <cp:revision>53</cp:revision>
  <dc:subject/>
  <dc:title>ОТКРЫТЫЙ КОНКУРС   ДЛЯ СУБЪЕКТОВ МАЛОГО ПРЕДПРИНИМАТЕЛЬСТВА</dc:title>
</cp:coreProperties>
</file>